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341-3902-4439-A5F8-38961FDCD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958DB9-E5E6-443F-8067-2964719E57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48242-12D9-4B15-AEDF-0977A714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9B0F3-0294-4AAC-9374-F04CC3B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06655-E223-470C-B7AE-823E91B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849C1-1ECB-4829-8BB7-C2CEA68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296C-AEC0-4FE1-8985-3D5C525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1910E-285B-4ADF-8C04-C5FCBF0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49625-3879-4FA0-8522-4F3C987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BF271-5E7C-4A55-B524-9FEA59F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5022D-F521-4F66-90C7-242614D4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5D0F5-76E1-43EA-AB5E-D5A5E66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E7C7F-ED47-4874-A22C-5B3C4CC8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6CA0-9F60-452C-A9A2-30650F72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BC33A-38FA-4FA7-A4C6-BF816B8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049AB-D087-4A64-96A6-6F52A94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414CF-9F61-4B1E-90CB-5EF6166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EE13B-1619-4083-8F9A-5DB7F64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17A61-AF8F-410C-BACC-20C651A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39284-9579-46C1-B892-27E6463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38304-85D8-4B68-94A7-1EFFA00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0A43C-0134-4121-B41B-F526425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8D2BE-7431-42FB-B8EC-D0E65A1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E2527-1477-423D-A96A-A2CCCBA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D2D87-D2CD-4793-B796-29809B08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00EC2-F67E-4ECA-91E7-17DD0163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2A22F-DDEC-44DC-B1D2-2D73190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B0CDD-6FCA-4A58-9CE7-C54842D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24506-EB27-49D0-8985-E46C276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AF203-00F5-4E9A-BDF7-3677B0E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D560F-453B-4B8F-8427-ACEB5254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2BAFC-6FA2-4711-8290-E2475585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DFCA4-C604-45D3-97F5-B305A4A8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F6CBB-B415-459A-9BB1-A0F505B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80A6E-C086-4FDB-9A77-23E09C4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B7C8D-507F-477C-BF92-97C4C00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A1904-D318-4A0B-86BB-B12C1307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E820F-F1A7-420D-B7B9-3019C3B6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E35F1-58AF-44D5-957C-B008B0EB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B4CB2-F376-4113-859D-8801C6D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F9369-969E-4672-8A39-1D17195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D9390-D67E-44BB-8F95-B14F21B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D379E-CE81-4825-BE0F-6EBD829E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E8897-ED28-4F8B-A19D-21C46B6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7F536-3D35-47CB-A297-23689F3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131DD-124A-4A66-B5BC-70A23FB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0BF58-D740-4B80-B338-C8482BC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041C8-9778-46C1-9FE0-C864019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2FE2A-242B-40C6-B32D-8D413E06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8386C-BA45-42D9-B6D4-1977F294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3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3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F59-38EB-45FA-AE05-116B3A9AB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5C3-AEA7-475B-BF3C-A0CEF317F39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323-4984-4F03-8570-044DAD920B6D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E6E-E75D-45DB-A036-E110ACFB3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AD0-0C64-4FC1-8EA2-8CADA0A6C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3203640" y="587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Екатеринбург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2792"/>
                </a:solidFill>
                <a:latin typeface="Arial"/>
                <a:ea typeface="Arial"/>
              </a:rPr>
              <a:t>17</a:t>
            </a: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 февраля 2016 год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050920" y="115920"/>
            <a:ext cx="655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b2792"/>
                </a:solidFill>
                <a:latin typeface="Arial"/>
                <a:ea typeface="Arial"/>
              </a:rPr>
              <a:t>Правительство Свердловской област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3" name="Прям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396720" y="1017720"/>
            <a:ext cx="8393400" cy="298440"/>
          </a:xfrm>
          <a:prstGeom prst="rect">
            <a:avLst/>
          </a:prstGeom>
          <a:ln w="0">
            <a:noFill/>
          </a:ln>
        </p:spPr>
      </p:pic>
      <p:grpSp>
        <p:nvGrpSpPr>
          <p:cNvPr id="714" name="Прямоугольник с двумя скругленными противолежащими углами 7"/>
          <p:cNvGrpSpPr/>
          <p:nvPr/>
        </p:nvGrpSpPr>
        <p:grpSpPr>
          <a:xfrm>
            <a:off x="146160" y="1530360"/>
            <a:ext cx="8839080" cy="2949480"/>
            <a:chOff x="146160" y="1530360"/>
            <a:chExt cx="8839080" cy="2949480"/>
          </a:xfrm>
        </p:grpSpPr>
        <p:pic>
          <p:nvPicPr>
            <p:cNvPr id="71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46160" y="1530360"/>
              <a:ext cx="8839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36600" y="1755720"/>
              <a:ext cx="8461440" cy="23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«Организация работы по проведению социально-психологического тестирования обучающихся в профессиональных и муниципальных образовательных организациях Свердловской области, направленного на раннее выявление незаконного потребления наркотических средств и психотропных веществ в 2014/2015 учебном году»</a:t>
              </a: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826920" y="1150920"/>
            <a:ext cx="7632720" cy="5064120"/>
          </a:xfrm>
          <a:prstGeom prst="rect">
            <a:avLst/>
          </a:prstGeom>
          <a:ln w="0">
            <a:noFill/>
          </a:ln>
        </p:spPr>
      </p:pic>
      <p:sp>
        <p:nvSpPr>
          <p:cNvPr id="719" name="Содержимое 7"/>
          <p:cNvSpPr/>
          <p:nvPr/>
        </p:nvSpPr>
        <p:spPr>
          <a:xfrm>
            <a:off x="2195640" y="260280"/>
            <a:ext cx="65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Нормативные документ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15920"/>
            <a:ext cx="87850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Количество обучающихся в образовательных организациях Свердловской области, принявших участие в тестирова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2014-2015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Диаграмма 6" descr=""/>
          <p:cNvPicPr/>
          <p:nvPr/>
        </p:nvPicPr>
        <p:blipFill>
          <a:blip r:embed="rId2"/>
          <a:stretch/>
        </p:blipFill>
        <p:spPr>
          <a:xfrm>
            <a:off x="4857840" y="2206800"/>
            <a:ext cx="3938400" cy="3030480"/>
          </a:xfrm>
          <a:prstGeom prst="rect">
            <a:avLst/>
          </a:prstGeom>
          <a:ln w="0">
            <a:noFill/>
          </a:ln>
        </p:spPr>
      </p:pic>
      <p:pic>
        <p:nvPicPr>
          <p:cNvPr id="724" name="Диаграмма 8" descr=""/>
          <p:cNvPicPr/>
          <p:nvPr/>
        </p:nvPicPr>
        <p:blipFill>
          <a:blip r:embed="rId3"/>
          <a:stretch/>
        </p:blipFill>
        <p:spPr>
          <a:xfrm>
            <a:off x="682560" y="2127240"/>
            <a:ext cx="4102200" cy="2895480"/>
          </a:xfrm>
          <a:prstGeom prst="rect">
            <a:avLst/>
          </a:prstGeom>
          <a:ln w="0">
            <a:noFill/>
          </a:ln>
        </p:spPr>
      </p:pic>
      <p:sp>
        <p:nvSpPr>
          <p:cNvPr id="725" name="Скругленный прямоугольник 1"/>
          <p:cNvSpPr/>
          <p:nvPr/>
        </p:nvSpPr>
        <p:spPr>
          <a:xfrm>
            <a:off x="611280" y="5229360"/>
            <a:ext cx="8137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СПО –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учреждения среднего профессионального образования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МОО –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муниципальные образовательные организаци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611280" y="1557360"/>
            <a:ext cx="7921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7"/>
          <p:cNvSpPr/>
          <p:nvPr/>
        </p:nvSpPr>
        <p:spPr>
          <a:xfrm>
            <a:off x="2050920" y="333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Локальные акты, разработанные  для обработки результатов</a:t>
            </a:r>
            <a:r>
              <a:rPr b="0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 </a:t>
            </a: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социально-психологического тестирован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0" name="Picture 13" descr=""/>
          <p:cNvPicPr/>
          <p:nvPr/>
        </p:nvPicPr>
        <p:blipFill>
          <a:blip r:embed="rId2"/>
          <a:stretch/>
        </p:blipFill>
        <p:spPr>
          <a:xfrm>
            <a:off x="539640" y="1319040"/>
            <a:ext cx="820908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5480" y="1714320"/>
            <a:ext cx="864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Цель - выявление наиболее действенных факторов риска и защиты, влияющих на вероятность приобщения подростков к сфере потребления наркотиков и связанных с этим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В качестве факторов риска и защиты представл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 общий уровень р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индивиду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емей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реда сверс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общесоци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«школьные»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6"/>
          <p:cNvSpPr/>
          <p:nvPr/>
        </p:nvSpPr>
        <p:spPr>
          <a:xfrm>
            <a:off x="826920" y="16992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Анкета В.Г. Латыше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Arial"/>
              </a:rPr>
              <a:t>«Исходная оценка наркотизации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-324000" y="115920"/>
            <a:ext cx="9180720" cy="688320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7" name="Прямоугольник 6"/>
          <p:cNvSpPr/>
          <p:nvPr/>
        </p:nvSpPr>
        <p:spPr>
          <a:xfrm>
            <a:off x="324000" y="2142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образовательных организациях Свердловской области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по уровням рис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8" name="Диаграмма 2" descr=""/>
          <p:cNvPicPr/>
          <p:nvPr/>
        </p:nvPicPr>
        <p:blipFill>
          <a:blip r:embed="rId2"/>
          <a:stretch/>
        </p:blipFill>
        <p:spPr>
          <a:xfrm>
            <a:off x="-663480" y="2441520"/>
            <a:ext cx="6222960" cy="3846600"/>
          </a:xfrm>
          <a:prstGeom prst="rect">
            <a:avLst/>
          </a:prstGeom>
          <a:ln w="0">
            <a:noFill/>
          </a:ln>
        </p:spPr>
      </p:pic>
      <p:sp>
        <p:nvSpPr>
          <p:cNvPr id="739" name="Прямоугольник 1"/>
          <p:cNvSpPr/>
          <p:nvPr/>
        </p:nvSpPr>
        <p:spPr>
          <a:xfrm>
            <a:off x="108000" y="1658880"/>
            <a:ext cx="468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профессиональных 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4500720" y="184464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 в муниципальных обще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41" name="Объект 3" descr=""/>
          <p:cNvPicPr/>
          <p:nvPr/>
        </p:nvPicPr>
        <p:blipFill>
          <a:blip r:embed="rId3"/>
          <a:stretch/>
        </p:blipFill>
        <p:spPr>
          <a:xfrm>
            <a:off x="3944880" y="2370240"/>
            <a:ext cx="5286600" cy="37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Диаграмма 7"/>
          <p:cNvGraphicFramePr/>
          <p:nvPr/>
        </p:nvGraphicFramePr>
        <p:xfrm>
          <a:off x="0" y="1422360"/>
          <a:ext cx="9144000" cy="546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6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2236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50920" y="1484280"/>
          <a:ext cx="8642160" cy="4070520"/>
        </p:xfrm>
        <a:graphic>
          <a:graphicData uri="http://schemas.openxmlformats.org/drawingml/2006/table">
            <a:tbl>
              <a:tblPr/>
              <a:tblGrid>
                <a:gridCol w="287280"/>
                <a:gridCol w="1982880"/>
                <a:gridCol w="1763640"/>
                <a:gridCol w="1871640"/>
                <a:gridCol w="1297080"/>
                <a:gridCol w="143964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Управленческий округ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Количество муниципальных образовательных организаций (шту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обучающихся, подлежащих участию в тестировании в возрасте от 14 до 18 лет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участников тестирования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Могут быть отнесены к группе риска (человек/ %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евер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03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08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58/4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Восточ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3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75/3,6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7 96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77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88/2,3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6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00/2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4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70/6,4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Березов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Арамильски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ысерт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Режев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8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38/5,8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3 2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2 5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94/5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Rectangle 5"/>
          <p:cNvSpPr/>
          <p:nvPr/>
        </p:nvSpPr>
        <p:spPr>
          <a:xfrm>
            <a:off x="395280" y="5807880"/>
            <a:ext cx="8353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Показатель для определения группы риска взят по среднему уровню риска и отражает  отсутствие самоопределения в жизни у обучающихся.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Среднеобластной показатель по среднему уровню риска – 4,2%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68360" y="260280"/>
            <a:ext cx="874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направления работы с подростками «группы риска»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179280" y="155736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ятельность  общеобразовательной   организаци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явление обучающихся, склонных к нарушению дисциплины, к совершению правонарушени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ределение причин отклонений в поведении и нравственном развити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плана педагогической коррекции личности подростка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учащихся в различные виды положительно-активной социальной деятельности и обеспечение успеха в не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менение условий семейного воспитания (исходя из возможностей образовательного учреждения) с использованием служб и ведомств системы профилактик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видуально-профилактическая работа с подростка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еды, консультации, тренинги, заняти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светительская и информационная деятельность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ивлечение родителей для совместной организации досуговой деятельност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здание комфортных условий в семье для развития личности подростк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в систему дополнительного образования, в мероприятия воспитательной направленно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8:33Z</dcterms:created>
  <dc:creator>LENOVO USER</dc:creator>
  <dc:description/>
  <dc:language>en-US</dc:language>
  <cp:lastModifiedBy>Ефимова</cp:lastModifiedBy>
  <cp:lastPrinted>2016-02-16T14:45:52Z</cp:lastPrinted>
  <dcterms:modified xsi:type="dcterms:W3CDTF">2016-04-08T07:23:16Z</dcterms:modified>
  <cp:revision>219</cp:revision>
  <dc:subject/>
  <dc:title>Презентация PowerPoint</dc:title>
</cp:coreProperties>
</file>