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5E8-475E-46D9-BA30-99ED6FF13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A7187E-F0E6-4466-9EA8-80E1506293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05D59-740B-46AF-B364-685E4027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698C-7987-4D5F-9D1E-593EC3C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E5E7C-E442-4492-AB28-60D9781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6F57D-C01F-465F-9682-0A20DB3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3F893-51A0-4EEF-857F-B23C6E5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A85DF-4AA2-4CF7-8C12-6C01B106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07926-91B4-4496-9297-D08E001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9E008-4A38-49C6-9626-30E0E02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41D5-B1E7-4466-A14F-297B989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5703-E26F-413C-96D8-9872D3D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2534-94F1-4038-B19B-BC800C14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F152-25BB-4540-9012-C251DF2F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F28EE-42EC-42BE-874F-D8925B0E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32875-43A7-4E1A-B5BA-DC952027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71FFF-7784-4E95-9C68-C7878675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5FA8A-2AD1-4776-97B0-0B79573C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C1613-4F14-4754-9DCD-E968B565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1BBFE-E1EA-4138-ACEA-60299F3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38A12-2119-4708-BC1C-6EB16F2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EE2E-2FC4-4B55-B252-37945FE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D4D0D-2605-438C-9B46-DAB59B2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5A123-E378-44F6-BA02-65C85DA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A1EF4-5036-4307-8223-13D94E24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AF6F9-CBEE-4354-B720-D0F82493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7514D-9DE9-4D39-B478-6AB73211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8CA12-269E-4A5B-9D67-E52AAE2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AF232-E639-4A4B-966B-65915DD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0B62D-7871-41E0-B9CB-0CEC11BE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CC823-AC1B-4959-88C2-E9283A78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838C8-5BDB-40A1-A8B3-A936F94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A65EC-23B9-4CAB-A944-419E652A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C9348-610B-4B22-BAA0-7A92239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1736F-4D40-4822-BC0F-8880339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4924B-D7FD-4C7C-9D5B-D9678CDF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766A1-BA16-4D47-B957-7B020157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C623C-C69E-4EEE-886F-1A1A31D1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10588-7986-4B52-AFDD-2D4C9D0A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4F153-B169-4908-96CD-46F2CFA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BEE8F-0192-4765-83F4-D16295EA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D4EC2-707D-4C67-A51D-ABE87FEF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D29C9-A19C-47D5-9597-C9A57CB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DC097-CE72-466C-A329-CE02B1D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CA7BC-6280-4863-AF89-096A6B0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4CA28-C945-4D7F-B0CB-788F2A0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1B190-B07D-4E7C-9FB2-7AA9ECD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3B648-21B1-46D2-9997-121E6D7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DCB00-CD60-47E9-8BA4-52FF7C86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2220E-0B1F-41FC-870F-330F4B9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3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3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DA5-C63F-4BD8-95E7-ADF65F408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9664-9478-4C7B-9B59-B9872E40D3D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5C4-4C03-4B98-A8A7-A28C350B30E1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19D-9EA2-4F14-A147-22588BBC3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E644-DD6E-4D1D-A0FF-A8448D94C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3203640" y="587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Екатеринбург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2792"/>
                </a:solidFill>
                <a:latin typeface="Arial"/>
                <a:ea typeface="Arial"/>
              </a:rPr>
              <a:t>17</a:t>
            </a: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 февраля 2016 год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050920" y="115920"/>
            <a:ext cx="655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b2792"/>
                </a:solidFill>
                <a:latin typeface="Arial"/>
                <a:ea typeface="Arial"/>
              </a:rPr>
              <a:t>Правительство Свердловской област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3" name="Прям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396720" y="1017720"/>
            <a:ext cx="8393400" cy="298440"/>
          </a:xfrm>
          <a:prstGeom prst="rect">
            <a:avLst/>
          </a:prstGeom>
          <a:ln w="0">
            <a:noFill/>
          </a:ln>
        </p:spPr>
      </p:pic>
      <p:grpSp>
        <p:nvGrpSpPr>
          <p:cNvPr id="714" name="Прямоугольник с двумя скругленными противолежащими углами 7"/>
          <p:cNvGrpSpPr/>
          <p:nvPr/>
        </p:nvGrpSpPr>
        <p:grpSpPr>
          <a:xfrm>
            <a:off x="146160" y="1530360"/>
            <a:ext cx="8839080" cy="2949480"/>
            <a:chOff x="146160" y="1530360"/>
            <a:chExt cx="8839080" cy="2949480"/>
          </a:xfrm>
        </p:grpSpPr>
        <p:pic>
          <p:nvPicPr>
            <p:cNvPr id="71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46160" y="1530360"/>
              <a:ext cx="8839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36600" y="1755720"/>
              <a:ext cx="8461440" cy="23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«Организация работы по проведению социально-психологического тестирования обучающихся в профессиональных и муниципальных образовательных организациях Свердловской области, направленного на раннее выявление незаконного потребления наркотических средств и психотропных веществ в 2014/2015 учебном году»</a:t>
              </a: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826920" y="1150920"/>
            <a:ext cx="7632720" cy="5064120"/>
          </a:xfrm>
          <a:prstGeom prst="rect">
            <a:avLst/>
          </a:prstGeom>
          <a:ln w="0">
            <a:noFill/>
          </a:ln>
        </p:spPr>
      </p:pic>
      <p:sp>
        <p:nvSpPr>
          <p:cNvPr id="719" name="Содержимое 7"/>
          <p:cNvSpPr/>
          <p:nvPr/>
        </p:nvSpPr>
        <p:spPr>
          <a:xfrm>
            <a:off x="2195640" y="260280"/>
            <a:ext cx="65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Нормативные документ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15920"/>
            <a:ext cx="87850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Количество обучающихся в образовательных организациях Свердловской области, принявших участие в тестирова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2014-2015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Диаграмма 6" descr=""/>
          <p:cNvPicPr/>
          <p:nvPr/>
        </p:nvPicPr>
        <p:blipFill>
          <a:blip r:embed="rId2"/>
          <a:stretch/>
        </p:blipFill>
        <p:spPr>
          <a:xfrm>
            <a:off x="4857840" y="2206800"/>
            <a:ext cx="3938400" cy="3030480"/>
          </a:xfrm>
          <a:prstGeom prst="rect">
            <a:avLst/>
          </a:prstGeom>
          <a:ln w="0">
            <a:noFill/>
          </a:ln>
        </p:spPr>
      </p:pic>
      <p:pic>
        <p:nvPicPr>
          <p:cNvPr id="724" name="Диаграмма 8" descr=""/>
          <p:cNvPicPr/>
          <p:nvPr/>
        </p:nvPicPr>
        <p:blipFill>
          <a:blip r:embed="rId3"/>
          <a:stretch/>
        </p:blipFill>
        <p:spPr>
          <a:xfrm>
            <a:off x="682560" y="2127240"/>
            <a:ext cx="4102200" cy="2895480"/>
          </a:xfrm>
          <a:prstGeom prst="rect">
            <a:avLst/>
          </a:prstGeom>
          <a:ln w="0">
            <a:noFill/>
          </a:ln>
        </p:spPr>
      </p:pic>
      <p:sp>
        <p:nvSpPr>
          <p:cNvPr id="725" name="Скругленный прямоугольник 1"/>
          <p:cNvSpPr/>
          <p:nvPr/>
        </p:nvSpPr>
        <p:spPr>
          <a:xfrm>
            <a:off x="611280" y="5229360"/>
            <a:ext cx="8137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СПО –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учреждения среднего профессионального образования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МОО –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муниципальные образовательные организаци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611280" y="1557360"/>
            <a:ext cx="7921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7"/>
          <p:cNvSpPr/>
          <p:nvPr/>
        </p:nvSpPr>
        <p:spPr>
          <a:xfrm>
            <a:off x="2050920" y="333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Локальные акты, разработанные  для обработки результатов</a:t>
            </a:r>
            <a:r>
              <a:rPr b="0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 </a:t>
            </a: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социально-психологического тестирован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0" name="Picture 13" descr=""/>
          <p:cNvPicPr/>
          <p:nvPr/>
        </p:nvPicPr>
        <p:blipFill>
          <a:blip r:embed="rId2"/>
          <a:stretch/>
        </p:blipFill>
        <p:spPr>
          <a:xfrm>
            <a:off x="539640" y="1319040"/>
            <a:ext cx="820908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5480" y="1714320"/>
            <a:ext cx="864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Цель - выявление наиболее действенных факторов риска и защиты, влияющих на вероятность приобщения подростков к сфере потребления наркотиков и связанных с этим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В качестве факторов риска и защиты представл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 общий уровень р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индивиду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емей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реда сверс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общесоци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«школьные»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6"/>
          <p:cNvSpPr/>
          <p:nvPr/>
        </p:nvSpPr>
        <p:spPr>
          <a:xfrm>
            <a:off x="826920" y="16992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Анкета В.Г. Латыше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Arial"/>
              </a:rPr>
              <a:t>«Исходная оценка наркотизации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-324000" y="115920"/>
            <a:ext cx="9180720" cy="688320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7" name="Прямоугольник 6"/>
          <p:cNvSpPr/>
          <p:nvPr/>
        </p:nvSpPr>
        <p:spPr>
          <a:xfrm>
            <a:off x="324000" y="2142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образовательных организациях Свердловской области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по уровням рис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8" name="Диаграмма 2" descr=""/>
          <p:cNvPicPr/>
          <p:nvPr/>
        </p:nvPicPr>
        <p:blipFill>
          <a:blip r:embed="rId2"/>
          <a:stretch/>
        </p:blipFill>
        <p:spPr>
          <a:xfrm>
            <a:off x="-663480" y="2441520"/>
            <a:ext cx="6222960" cy="3846600"/>
          </a:xfrm>
          <a:prstGeom prst="rect">
            <a:avLst/>
          </a:prstGeom>
          <a:ln w="0">
            <a:noFill/>
          </a:ln>
        </p:spPr>
      </p:pic>
      <p:sp>
        <p:nvSpPr>
          <p:cNvPr id="739" name="Прямоугольник 1"/>
          <p:cNvSpPr/>
          <p:nvPr/>
        </p:nvSpPr>
        <p:spPr>
          <a:xfrm>
            <a:off x="108000" y="1658880"/>
            <a:ext cx="468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профессиональных 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4500720" y="184464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 в муниципальных обще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41" name="Объект 3" descr=""/>
          <p:cNvPicPr/>
          <p:nvPr/>
        </p:nvPicPr>
        <p:blipFill>
          <a:blip r:embed="rId3"/>
          <a:stretch/>
        </p:blipFill>
        <p:spPr>
          <a:xfrm>
            <a:off x="3944880" y="2370240"/>
            <a:ext cx="5286600" cy="37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Диаграмма 7"/>
          <p:cNvGraphicFramePr/>
          <p:nvPr/>
        </p:nvGraphicFramePr>
        <p:xfrm>
          <a:off x="0" y="1422360"/>
          <a:ext cx="9144000" cy="546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6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2236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50920" y="1484280"/>
          <a:ext cx="8642160" cy="4070520"/>
        </p:xfrm>
        <a:graphic>
          <a:graphicData uri="http://schemas.openxmlformats.org/drawingml/2006/table">
            <a:tbl>
              <a:tblPr/>
              <a:tblGrid>
                <a:gridCol w="287280"/>
                <a:gridCol w="1982880"/>
                <a:gridCol w="1763640"/>
                <a:gridCol w="1871640"/>
                <a:gridCol w="1297080"/>
                <a:gridCol w="143964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Управленческий округ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Количество муниципальных образовательных организаций (шту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обучающихся, подлежащих участию в тестировании в возрасте от 14 до 18 лет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участников тестирования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Могут быть отнесены к группе риска (человек/ %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евер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03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08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58/4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Восточ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3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75/3,6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7 96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77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88/2,3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6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00/2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4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70/6,4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Березов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Арамильски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ысерт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Режев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8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38/5,8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3 2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2 5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94/5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Rectangle 5"/>
          <p:cNvSpPr/>
          <p:nvPr/>
        </p:nvSpPr>
        <p:spPr>
          <a:xfrm>
            <a:off x="395280" y="5807880"/>
            <a:ext cx="8353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Показатель для определения группы риска взят по среднему уровню риска и отражает  отсутствие самоопределения в жизни у обучающихся.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Среднеобластной показатель по среднему уровню риска – 4,2%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68360" y="260280"/>
            <a:ext cx="874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направления работы с подростками «группы риска»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179280" y="155736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ятельность  общеобразовательной   организаци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явление обучающихся, склонных к нарушению дисциплины, к совершению правонарушени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ределение причин отклонений в поведении и нравственном развити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плана педагогической коррекции личности подростка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учащихся в различные виды положительно-активной социальной деятельности и обеспечение успеха в не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менение условий семейного воспитания (исходя из возможностей образовательного учреждения) с использованием служб и ведомств системы профилактик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видуально-профилактическая работа с подростка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еды, консультации, тренинги, заняти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светительская и информационная деятельность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ивлечение родителей для совместной организации досуговой деятельност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здание комфортных условий в семье для развития личности подростк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в систему дополнительного образования, в мероприятия воспитательной направленно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8:33Z</dcterms:created>
  <dc:creator>LENOVO USER</dc:creator>
  <dc:description/>
  <dc:language>en-US</dc:language>
  <cp:lastModifiedBy>Ефимова</cp:lastModifiedBy>
  <cp:lastPrinted>2016-02-16T14:45:52Z</cp:lastPrinted>
  <dcterms:modified xsi:type="dcterms:W3CDTF">2016-04-08T07:23:16Z</dcterms:modified>
  <cp:revision>219</cp:revision>
  <dc:subject/>
  <dc:title>Презентация PowerPoint</dc:title>
</cp:coreProperties>
</file>