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4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37"/>
          </p:nvPr>
        </p:nvSpPr>
        <p:spPr>
          <a:xfrm>
            <a:off x="3858840" y="0"/>
            <a:ext cx="29545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38"/>
          </p:nvPr>
        </p:nvSpPr>
        <p:spPr>
          <a:xfrm>
            <a:off x="0" y="9443520"/>
            <a:ext cx="29541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39"/>
          </p:nvPr>
        </p:nvSpPr>
        <p:spPr>
          <a:xfrm>
            <a:off x="3858840" y="9443520"/>
            <a:ext cx="29545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56DC-39FD-4A3C-BBC9-51EC4F86BA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Номер слайда 3"/>
          <p:cNvSpPr/>
          <p:nvPr/>
        </p:nvSpPr>
        <p:spPr>
          <a:xfrm>
            <a:off x="3859200" y="9443880"/>
            <a:ext cx="2954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C34ED0-8A93-4D32-B2A0-05E90CFD20D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83D07-657C-4BC3-A41A-089E41DB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5B588-BC2F-477C-87A3-8B39FDB3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DFD078-0015-41EC-9268-3419383E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07915-F4DC-4B31-BA36-9D50BE25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B87ED-6617-4468-9DA1-29B58DAB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5BEB8-2BCF-4CA3-A725-28BD9F5A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3BCF25-BB8B-440C-A969-1DEED1F8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35F82-15B0-4335-978E-077108FE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D58B5-B8A7-4224-904C-7AAEFAC6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A6E69-6808-4C56-A9B8-8F1355B2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3C7EE-CC2A-4717-8115-D93A4743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496E5-4343-404B-B506-1E48CC296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3F3B95-EF4A-429C-BFA5-0064BFED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66E4BA-C77C-4478-8602-2750F1F8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0AF8E7-B40D-4137-A23D-510F515E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E5524-BAB2-4BB6-BF05-D0DB4B43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5452C-EE2C-4FD2-9CC8-EDEB360B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066167-60C3-41AD-BC00-0774DF6E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B5D68-A3F5-44B2-9688-7EC34962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381AA5-1F5B-408C-B613-19E73180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A50B7-BACB-4ED8-9EBB-61F8DEFC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C3C93-D1EF-42D8-94E3-B69F8AAF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7F9AB-74A6-4B06-961F-754F432A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61AFD0-23B8-4531-91BE-FB915959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94812B-E3C7-4FDC-8BC0-906BAACA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766ED-D4C5-42B7-91D4-CB4D44B3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3ECE4-4CCA-40BA-9B80-CA57517A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FA43DA-80E4-4DB7-8890-1C7DF6F4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24BF2-7536-4596-96FB-41ADC9CE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565A98-B73E-4EC9-A2AB-48D1484F7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92778B-3320-4615-BBA2-1F100E38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4EC9A-2C6E-41DE-83BC-A4372DBC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67C58D-0A06-4BE5-AC49-05961E59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F63698-14AA-44E5-8C3C-9E36651D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3EFBA2-0AAF-4F91-8C4F-E30563DE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F0950A-46B7-4C8A-BCE8-DC0D3FE5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B6189B-4B8A-4881-9CB2-D74BFF31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4EEF4C-9BBD-47A1-A74D-B5A92979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3B28C9-BE6E-48CA-A0CA-74B68B36A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E7382-2D75-40AD-9FF9-2773F997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4414A-C509-44ED-947F-F6CCA563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29CA0E-E732-45FF-8452-49DA39D4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F8A82-00F0-44D4-9440-EAFA2C75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C787DC-344B-404B-9334-28391100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6EFCD6-9D0B-4003-BC3C-BE737ADE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7A6831-40AE-4633-879E-B49D0E2A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8C1A81-4CFB-4724-AB1A-CB25A7A40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E0C6A-BC1B-424C-84A0-334996B2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3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ftr" idx="2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7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29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3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33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ftr" idx="3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66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5C73-D455-4019-A95D-BC4D0D0D4B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31E0-F17A-47D7-8BD6-02789B87D902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7009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AB07-1239-44EE-B97F-D46528B51057}" type="slidenum">
              <a:rPr b="0" lang="ru-RU" sz="1200" spc="-1" strike="noStrike">
                <a:solidFill>
                  <a:srgbClr val="898989"/>
                </a:solidFill>
                <a:latin typeface="Cambria Math"/>
                <a:ea typeface="Cambria Math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5AA6-0FE4-44B0-826C-53B5B49D7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97C6-F1B4-4BF9-8F1D-6F77C0698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ftr" idx="15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ftr" idx="17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0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2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3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ftr" idx="19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4"/>
          <p:cNvSpPr/>
          <p:nvPr/>
        </p:nvSpPr>
        <p:spPr>
          <a:xfrm>
            <a:off x="0" y="0"/>
            <a:ext cx="9142560" cy="1125360"/>
          </a:xfrm>
          <a:prstGeom prst="rect">
            <a:avLst/>
          </a:prstGeom>
          <a:gradFill rotWithShape="0">
            <a:gsLst>
              <a:gs pos="0">
                <a:srgbClr val="e8d1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5" name="Freeform 5"/>
          <p:cNvSpPr/>
          <p:nvPr/>
        </p:nvSpPr>
        <p:spPr>
          <a:xfrm>
            <a:off x="34920" y="0"/>
            <a:ext cx="12970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6" name="Freeform 6"/>
          <p:cNvSpPr/>
          <p:nvPr/>
        </p:nvSpPr>
        <p:spPr>
          <a:xfrm>
            <a:off x="3240" y="-15840"/>
            <a:ext cx="96840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Freeform 9"/>
          <p:cNvSpPr/>
          <p:nvPr/>
        </p:nvSpPr>
        <p:spPr>
          <a:xfrm>
            <a:off x="7610400" y="6093000"/>
            <a:ext cx="1569960" cy="7650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Freeform 10"/>
          <p:cNvSpPr/>
          <p:nvPr/>
        </p:nvSpPr>
        <p:spPr>
          <a:xfrm>
            <a:off x="7575480" y="6308640"/>
            <a:ext cx="1568520" cy="54936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e8d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126720"/>
            <a:ext cx="73134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66cc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58560" y="1414440"/>
            <a:ext cx="77058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1" marL="743040" indent="-28584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2" marL="1143000" indent="-228600">
              <a:spcBef>
                <a:spcPts val="726"/>
              </a:spcBef>
              <a:buClr>
                <a:srgbClr val="0066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3" marL="1600200" indent="-228600">
              <a:spcBef>
                <a:spcPts val="726"/>
              </a:spcBef>
              <a:buClr>
                <a:srgbClr val="8594e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4" marL="2057400" indent="-228600">
              <a:spcBef>
                <a:spcPts val="726"/>
              </a:spcBef>
              <a:buClr>
                <a:srgbClr val="0066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5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  <a:p>
            <a:pPr lvl="6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Georgia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21"/>
          </p:nvPr>
        </p:nvSpPr>
        <p:spPr>
          <a:xfrm>
            <a:off x="2195280" y="6237000"/>
            <a:ext cx="6732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МУ Центр психолого-педагогической поддержки несовершеннолетних «Диалог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1738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Box 3"/>
          <p:cNvSpPr/>
          <p:nvPr/>
        </p:nvSpPr>
        <p:spPr>
          <a:xfrm>
            <a:off x="3203640" y="587700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Екатеринбург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b2792"/>
                </a:solidFill>
                <a:latin typeface="Arial"/>
                <a:ea typeface="Arial"/>
              </a:rPr>
              <a:t>17</a:t>
            </a:r>
            <a:r>
              <a:rPr b="1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 февраля 2016 года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2050920" y="115920"/>
            <a:ext cx="6553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b2792"/>
                </a:solidFill>
                <a:latin typeface="Arial"/>
                <a:ea typeface="Arial"/>
              </a:rPr>
              <a:t>Правительство Свердловской области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b2792"/>
                </a:solidFill>
                <a:latin typeface="Arial"/>
                <a:ea typeface="Arial"/>
              </a:rPr>
              <a:t>Министерство общего и профессионального образования Свердловской област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13" name="Прямая соединительная линия 5" descr=""/>
          <p:cNvPicPr/>
          <p:nvPr/>
        </p:nvPicPr>
        <p:blipFill>
          <a:blip r:embed="rId1"/>
          <a:stretch/>
        </p:blipFill>
        <p:spPr>
          <a:xfrm>
            <a:off x="396720" y="1017720"/>
            <a:ext cx="8393400" cy="298440"/>
          </a:xfrm>
          <a:prstGeom prst="rect">
            <a:avLst/>
          </a:prstGeom>
          <a:ln w="0">
            <a:noFill/>
          </a:ln>
        </p:spPr>
      </p:pic>
      <p:grpSp>
        <p:nvGrpSpPr>
          <p:cNvPr id="714" name="Прямоугольник с двумя скругленными противолежащими углами 7"/>
          <p:cNvGrpSpPr/>
          <p:nvPr/>
        </p:nvGrpSpPr>
        <p:grpSpPr>
          <a:xfrm>
            <a:off x="146160" y="1530360"/>
            <a:ext cx="8839080" cy="2949480"/>
            <a:chOff x="146160" y="1530360"/>
            <a:chExt cx="8839080" cy="2949480"/>
          </a:xfrm>
        </p:grpSpPr>
        <p:pic>
          <p:nvPicPr>
            <p:cNvPr id="715" name="Прямоугольник с двумя скругленными противолежащими углами 7" descr=""/>
            <p:cNvPicPr/>
            <p:nvPr/>
          </p:nvPicPr>
          <p:blipFill>
            <a:blip r:embed="rId2"/>
            <a:stretch/>
          </p:blipFill>
          <p:spPr>
            <a:xfrm>
              <a:off x="146160" y="1530360"/>
              <a:ext cx="8839080" cy="294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6" name=""/>
            <p:cNvSpPr/>
            <p:nvPr/>
          </p:nvSpPr>
          <p:spPr>
            <a:xfrm>
              <a:off x="336600" y="1755720"/>
              <a:ext cx="8461440" cy="23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66"/>
                  </a:solidFill>
                  <a:latin typeface="Arial"/>
                </a:rPr>
                <a:t>«Организация работы по проведению социально-психологического тестирования обучающихся в профессиональных и муниципальных образовательных организациях Свердловской области, направленного на раннее выявление незаконного потребления наркотических средств и психотропных веществ в 2014/2015 учебном году»</a:t>
              </a:r>
              <a:endParaRPr b="0" lang="en-US" sz="2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770436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18" name="Picture 7" descr=""/>
          <p:cNvPicPr/>
          <p:nvPr/>
        </p:nvPicPr>
        <p:blipFill>
          <a:blip r:embed="rId1"/>
          <a:stretch/>
        </p:blipFill>
        <p:spPr>
          <a:xfrm>
            <a:off x="826920" y="1150920"/>
            <a:ext cx="7632720" cy="5064120"/>
          </a:xfrm>
          <a:prstGeom prst="rect">
            <a:avLst/>
          </a:prstGeom>
          <a:ln w="0">
            <a:noFill/>
          </a:ln>
        </p:spPr>
      </p:pic>
      <p:sp>
        <p:nvSpPr>
          <p:cNvPr id="719" name="Содержимое 7"/>
          <p:cNvSpPr/>
          <p:nvPr/>
        </p:nvSpPr>
        <p:spPr>
          <a:xfrm>
            <a:off x="2195640" y="260280"/>
            <a:ext cx="655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Нормативные документы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21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94920" y="115920"/>
            <a:ext cx="8785080" cy="124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Количество обучающихся в образовательных организациях Свердловской области, принявших участие в тестирован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в 2014-2015 учебном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Диаграмма 6" descr=""/>
          <p:cNvPicPr/>
          <p:nvPr/>
        </p:nvPicPr>
        <p:blipFill>
          <a:blip r:embed="rId2"/>
          <a:stretch/>
        </p:blipFill>
        <p:spPr>
          <a:xfrm>
            <a:off x="4857840" y="2206800"/>
            <a:ext cx="3938400" cy="3030480"/>
          </a:xfrm>
          <a:prstGeom prst="rect">
            <a:avLst/>
          </a:prstGeom>
          <a:ln w="0">
            <a:noFill/>
          </a:ln>
        </p:spPr>
      </p:pic>
      <p:pic>
        <p:nvPicPr>
          <p:cNvPr id="724" name="Диаграмма 8" descr=""/>
          <p:cNvPicPr/>
          <p:nvPr/>
        </p:nvPicPr>
        <p:blipFill>
          <a:blip r:embed="rId3"/>
          <a:stretch/>
        </p:blipFill>
        <p:spPr>
          <a:xfrm>
            <a:off x="682560" y="2127240"/>
            <a:ext cx="4102200" cy="2895480"/>
          </a:xfrm>
          <a:prstGeom prst="rect">
            <a:avLst/>
          </a:prstGeom>
          <a:ln w="0">
            <a:noFill/>
          </a:ln>
        </p:spPr>
      </p:pic>
      <p:sp>
        <p:nvSpPr>
          <p:cNvPr id="725" name="Скругленный прямоугольник 1"/>
          <p:cNvSpPr/>
          <p:nvPr/>
        </p:nvSpPr>
        <p:spPr>
          <a:xfrm>
            <a:off x="611280" y="5229360"/>
            <a:ext cx="8137440" cy="1295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  <a:ea typeface="Arial"/>
              </a:rPr>
              <a:t>СПО –</a:t>
            </a:r>
            <a:r>
              <a:rPr b="1" lang="ru-RU" sz="3200" spc="-1" strike="noStrike">
                <a:solidFill>
                  <a:srgbClr val="000066"/>
                </a:solidFill>
                <a:latin typeface="Georgi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  <a:ea typeface="Arial"/>
              </a:rPr>
              <a:t>учреждения среднего профессионального образования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Georgia"/>
                <a:ea typeface="Arial"/>
              </a:rPr>
              <a:t>МОО –</a:t>
            </a:r>
            <a:r>
              <a:rPr b="0" lang="ru-RU" sz="2400" spc="-1" strike="noStrike">
                <a:solidFill>
                  <a:srgbClr val="000066"/>
                </a:solidFill>
                <a:latin typeface="Verdana"/>
                <a:ea typeface="Arial"/>
              </a:rPr>
              <a:t> </a:t>
            </a:r>
            <a:r>
              <a:rPr b="1" i="1" lang="ru-RU" sz="1600" spc="-1" strike="noStrike">
                <a:solidFill>
                  <a:srgbClr val="000066"/>
                </a:solidFill>
                <a:latin typeface="Georgia"/>
                <a:ea typeface="Arial"/>
              </a:rPr>
              <a:t>муниципальные образовательные организаци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7" name="AutoShape 4"/>
          <p:cNvSpPr/>
          <p:nvPr/>
        </p:nvSpPr>
        <p:spPr>
          <a:xfrm>
            <a:off x="611280" y="1557360"/>
            <a:ext cx="7921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28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29" name="Прямоугольник 7"/>
          <p:cNvSpPr/>
          <p:nvPr/>
        </p:nvSpPr>
        <p:spPr>
          <a:xfrm>
            <a:off x="2050920" y="33336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Локальные акты, разработанные  для обработки результатов</a:t>
            </a:r>
            <a:r>
              <a:rPr b="0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 </a:t>
            </a:r>
            <a:r>
              <a:rPr b="1" lang="ru-RU" sz="1800" spc="-1" strike="noStrike">
                <a:solidFill>
                  <a:srgbClr val="4f81bd"/>
                </a:solidFill>
                <a:latin typeface="Georgia"/>
                <a:ea typeface="Arial"/>
              </a:rPr>
              <a:t>социально-психологического тестировани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30" name="Picture 13" descr=""/>
          <p:cNvPicPr/>
          <p:nvPr/>
        </p:nvPicPr>
        <p:blipFill>
          <a:blip r:embed="rId2"/>
          <a:stretch/>
        </p:blipFill>
        <p:spPr>
          <a:xfrm>
            <a:off x="539640" y="1319040"/>
            <a:ext cx="8209080" cy="492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32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285480" y="1714320"/>
            <a:ext cx="864396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9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Цель - выявление наиболее действенных факторов риска и защиты, влияющих на вероятность приобщения подростков к сфере потребления наркотиков и связанных с этим пробл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В качестве факторов риска и защиты представлен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 общий уровень рис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индивидуаль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семей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среда сверс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общесоциальные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7030a0"/>
                </a:solidFill>
                <a:latin typeface="Georgia"/>
                <a:ea typeface="Times New Roman"/>
              </a:rPr>
              <a:t>- «школьные» факто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92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Прямоугольник 6"/>
          <p:cNvSpPr/>
          <p:nvPr/>
        </p:nvSpPr>
        <p:spPr>
          <a:xfrm>
            <a:off x="826920" y="16992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Анкета В.Г. Латышев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Arial"/>
              </a:rPr>
              <a:t>«Исходная оценка наркотизации»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-324000" y="115920"/>
            <a:ext cx="9180720" cy="6883200"/>
          </a:xfrm>
          <a:prstGeom prst="rect">
            <a:avLst/>
          </a:prstGeom>
          <a:ln w="0">
            <a:noFill/>
          </a:ln>
        </p:spPr>
      </p:pic>
      <p:sp>
        <p:nvSpPr>
          <p:cNvPr id="736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7" name="Прямоугольник 6"/>
          <p:cNvSpPr/>
          <p:nvPr/>
        </p:nvSpPr>
        <p:spPr>
          <a:xfrm>
            <a:off x="324000" y="214200"/>
            <a:ext cx="81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в образовательных организациях Свердловской области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Georgia"/>
                <a:ea typeface="Times New Roman"/>
              </a:rPr>
              <a:t>по уровням риска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38" name="Диаграмма 2" descr=""/>
          <p:cNvPicPr/>
          <p:nvPr/>
        </p:nvPicPr>
        <p:blipFill>
          <a:blip r:embed="rId2"/>
          <a:stretch/>
        </p:blipFill>
        <p:spPr>
          <a:xfrm>
            <a:off x="-663480" y="2441520"/>
            <a:ext cx="6222960" cy="3846600"/>
          </a:xfrm>
          <a:prstGeom prst="rect">
            <a:avLst/>
          </a:prstGeom>
          <a:ln w="0">
            <a:noFill/>
          </a:ln>
        </p:spPr>
      </p:pic>
      <p:sp>
        <p:nvSpPr>
          <p:cNvPr id="739" name="Прямоугольник 1"/>
          <p:cNvSpPr/>
          <p:nvPr/>
        </p:nvSpPr>
        <p:spPr>
          <a:xfrm>
            <a:off x="108000" y="1658880"/>
            <a:ext cx="46800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в профессиональных образовательных организациях по уровням риска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0" name="Прямоугольник 2"/>
          <p:cNvSpPr/>
          <p:nvPr/>
        </p:nvSpPr>
        <p:spPr>
          <a:xfrm>
            <a:off x="4500720" y="1844640"/>
            <a:ext cx="446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10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Georgia"/>
                <a:ea typeface="Times New Roman"/>
              </a:rPr>
              <a:t>Распределение обучающихся в муниципальных общеобразовательных организациях по уровням риска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741" name="Объект 3" descr=""/>
          <p:cNvPicPr/>
          <p:nvPr/>
        </p:nvPicPr>
        <p:blipFill>
          <a:blip r:embed="rId3"/>
          <a:stretch/>
        </p:blipFill>
        <p:spPr>
          <a:xfrm>
            <a:off x="3944880" y="2370240"/>
            <a:ext cx="5286600" cy="370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43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826920" y="357120"/>
            <a:ext cx="760104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Сравнение факторов р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5" name="Диаграмма 7"/>
          <p:cNvGraphicFramePr/>
          <p:nvPr/>
        </p:nvGraphicFramePr>
        <p:xfrm>
          <a:off x="0" y="1422360"/>
          <a:ext cx="9144000" cy="5461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46" name="Диаграмма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22360"/>
                    <a:ext cx="9144000" cy="54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"/>
          <p:cNvPicPr/>
          <p:nvPr/>
        </p:nvPicPr>
        <p:blipFill>
          <a:blip r:embed="rId1"/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48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826920" y="357120"/>
            <a:ext cx="760104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  <a:ea typeface="Times New Roman"/>
              </a:rPr>
              <a:t>Сравнение факторов ри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250920" y="1484280"/>
          <a:ext cx="8642160" cy="4070520"/>
        </p:xfrm>
        <a:graphic>
          <a:graphicData uri="http://schemas.openxmlformats.org/drawingml/2006/table">
            <a:tbl>
              <a:tblPr/>
              <a:tblGrid>
                <a:gridCol w="287280"/>
                <a:gridCol w="1982880"/>
                <a:gridCol w="1763640"/>
                <a:gridCol w="1871640"/>
                <a:gridCol w="1297080"/>
                <a:gridCol w="1439640"/>
              </a:tblGrid>
              <a:tr h="1527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Управленческий округ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Количество муниципальных образовательных организаций (шту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Общее число обучающихся, подлежащих участию в тестировании в возрасте от 14 до 18 лет (челове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Общее число участников тестирования (человек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Могут быть отнесены к группе риска (человек/ %)</a:t>
                      </a:r>
                      <a:endParaRPr b="0" lang="en-US" sz="12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Северны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 03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 08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58/4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Восточны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 15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0 388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75/3,6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Горнозаводско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7 96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 77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88/2,3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Западн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 65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3 981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00/2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Южны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1 415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0 55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670/6,4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Березовски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Арамильский 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Сысертски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Режевской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8 159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6 83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2138/5,8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Г. Екатеринбург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43 200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32 577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66"/>
                          </a:solidFill>
                          <a:latin typeface="Georgia"/>
                          <a:ea typeface="Calibri"/>
                        </a:rPr>
                        <a:t>1694/5,2%</a:t>
                      </a:r>
                      <a:endParaRPr b="0" lang="en-US" sz="1400" spc="-1" strike="noStrike">
                        <a:solidFill>
                          <a:srgbClr val="000066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Rectangle 5"/>
          <p:cNvSpPr/>
          <p:nvPr/>
        </p:nvSpPr>
        <p:spPr>
          <a:xfrm>
            <a:off x="395280" y="5807880"/>
            <a:ext cx="8353440" cy="733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4e7e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Georgia"/>
                <a:ea typeface="Arial"/>
              </a:rPr>
              <a:t>Показатель для определения группы риска взят по среднему уровню риска и отражает  отсутствие самоопределения в жизни у обучающихся. 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Georgia"/>
                <a:ea typeface="Arial"/>
              </a:rPr>
              <a:t>Среднеобластной показатель по среднему уровню риска – 4,2%</a:t>
            </a:r>
            <a:endParaRPr b="0" lang="en-US" sz="1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Picture 2" descr=""/>
          <p:cNvPicPr/>
          <p:nvPr/>
        </p:nvPicPr>
        <p:blipFill>
          <a:blip r:embed="rId1">
            <a:lum bright="20000"/>
          </a:blip>
          <a:srcRect l="0" t="0" r="38107" b="0"/>
          <a:stretch/>
        </p:blipFill>
        <p:spPr>
          <a:xfrm>
            <a:off x="0" y="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753" name="Прямая соединительная линия 5"/>
          <p:cNvSpPr/>
          <p:nvPr/>
        </p:nvSpPr>
        <p:spPr>
          <a:xfrm>
            <a:off x="0" y="1341360"/>
            <a:ext cx="9180360" cy="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4" name="Rectangle 2"/>
          <p:cNvSpPr/>
          <p:nvPr/>
        </p:nvSpPr>
        <p:spPr>
          <a:xfrm>
            <a:off x="468360" y="260280"/>
            <a:ext cx="87469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33cc"/>
                </a:solidFill>
                <a:latin typeface="Georgia"/>
                <a:ea typeface="Times New Roman"/>
              </a:rPr>
              <a:t>Основные направления работы с подростками «группы риска»</a:t>
            </a:r>
            <a:endParaRPr b="0" lang="en-US" sz="3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5" name="Rectangle 3"/>
          <p:cNvSpPr/>
          <p:nvPr/>
        </p:nvSpPr>
        <p:spPr>
          <a:xfrm>
            <a:off x="179280" y="1557360"/>
            <a:ext cx="89647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еятельность  общеобразовательной   организаци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ыявление обучающихся, склонных к нарушению дисциплины, к совершению правонарушений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пределение причин отклонений в поведении и нравственном развитии подростков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оставление плана педагогической коррекции личности подростка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овлечение учащихся в различные виды положительно-активной социальной деятельности и обеспечение успеха в ней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зменение условий семейного воспитания (исходя из возможностей образовательного учреждения) с использованием служб и ведомств системы профилактик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Индивидуально-профилактическая работа с подросткам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беседы, консультации, тренинги, занятия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осветительская и информационная деятельность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емейное консультирование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привлечение родителей для совместной организации досуговой деятельности подростков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b24d1d"/>
                </a:solidFill>
                <a:latin typeface="Times New Roman"/>
                <a:ea typeface="Times New Roman"/>
              </a:rPr>
              <a:t>создание комфортных условий в семье для развития личности подростка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Досуговая деятель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овлечение в систему дополнительного образования, в мероприятия воспитательной направленности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9:38:33Z</dcterms:created>
  <dc:creator>LENOVO USER</dc:creator>
  <dc:description/>
  <dc:language>en-US</dc:language>
  <cp:lastModifiedBy>Ефимова</cp:lastModifiedBy>
  <cp:lastPrinted>2016-02-16T14:45:52Z</cp:lastPrinted>
  <dcterms:modified xsi:type="dcterms:W3CDTF">2016-04-08T07:23:16Z</dcterms:modified>
  <cp:revision>219</cp:revision>
  <dc:subject/>
  <dc:title>Презентация PowerPoint</dc:title>
</cp:coreProperties>
</file>