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5884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41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58840" y="9443520"/>
            <a:ext cx="29545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EF51-A641-4FCB-9EC4-49823ED50C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85871F-3292-4531-B170-7E6003A09D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87C11-853C-48F3-847F-52471D62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B42AC-5D2E-4C1C-B9F5-B3EFBCE4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71E7F-12C1-4F67-90D0-7CF3DAED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4BE99-1579-4933-B82C-7E1BE8A1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7117B-66FF-45DA-B723-66702EDC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3B74C-4756-4E60-9675-8728E2FC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D381E-E4C3-4694-A503-6223E313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E7D41-D85D-48E3-95B7-3317C474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2242B-942D-426A-A713-84C0430B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3DB99-77A6-4C36-9384-068BC160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160EE-C2BC-4F88-938A-D15A5EBB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BE554-28E3-4ADE-AA04-836993E4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153C7-D428-4CC0-94B4-DCD841FB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A2DFC-E097-4BAC-9BA7-A913F91D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23BAF-0940-40CA-9C07-FE0E6511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8FBAE-DBA0-4D72-9E46-344DFCA3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21251-37F8-467A-B1C3-06BF2365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7E1D0-541D-4471-A2F9-DB5021E9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76485-7C90-4FD1-B593-DA284710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43F17-1EE3-433E-96C3-1A56C846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E8671-647B-474F-86E2-D5F59CE2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35CF4-D339-440A-B6DF-A639B45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8234E-E9C2-41E0-84CF-5B5E7B60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DF7B6-1E60-4BBD-A456-46B07B5E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55E1C-70F1-41E6-A891-A35144C7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1CBA5-98FA-40B7-B0D7-DA0D1A46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E6149-0BB0-43DE-BA5A-60895CCF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7D4CA-74B5-4366-9689-800A4DDC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42B793-65F0-428C-A27F-33CCD5DF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0A4D6-D46E-430F-90AC-048BC7E3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592D0-B5D3-471B-A6E8-A128DAFA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987AF-F3A3-48D0-9E30-6BDAECB6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DC40D2-16CE-4B86-BA50-64B078B3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75E03-E2C0-4C0C-9F3E-CF4848A3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51696-39F4-438E-A2EF-DE952A03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EDD7C-8A24-4ABD-A6CF-5CB10B1F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34AF5-3ABD-4045-894C-F08C3F2D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3F686-2F67-4E9E-9CA6-7112F7DB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2DF4A-723B-4BDA-9430-8B3E554E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CA257-3D7E-4640-9C3D-78B2C58E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FDF25-D60F-464C-8DC9-9800D277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32E21-E8DB-461F-A671-6851E898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4489D-7301-4E90-BADD-D25C3B7E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A3372-B600-476D-9C3D-5966522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41323-5A3B-48A9-AEAB-C300390C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98DD8-F627-4A84-AE0F-747FFF3A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B083CC-6386-45FB-8241-A5192C92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A67D5-C822-48FF-8E63-DDAB860E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3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7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29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3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3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ftr" idx="3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6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4201-52BD-4F12-8C2B-F597E4D54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38B2-05DA-437A-AB55-56393D736C2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0296-0735-4F83-93F7-07731CA27A07}" type="slidenum">
              <a: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B6F2-A923-4E0B-B984-DE631F34E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AD90-8798-428B-B450-0EA6AB5C6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7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9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2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3"/>
          <p:cNvSpPr/>
          <p:nvPr/>
        </p:nvSpPr>
        <p:spPr>
          <a:xfrm>
            <a:off x="3203640" y="587700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Екатеринбург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b2792"/>
                </a:solidFill>
                <a:latin typeface="Arial"/>
                <a:ea typeface="Arial"/>
              </a:rPr>
              <a:t>17</a:t>
            </a:r>
            <a:r>
              <a:rPr b="1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 февраля 2016 года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2" name="Text Box 11"/>
          <p:cNvSpPr/>
          <p:nvPr/>
        </p:nvSpPr>
        <p:spPr>
          <a:xfrm>
            <a:off x="2050920" y="115920"/>
            <a:ext cx="655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b2792"/>
                </a:solidFill>
                <a:latin typeface="Arial"/>
                <a:ea typeface="Arial"/>
              </a:rPr>
              <a:t>Правительство Свердловской области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Министерство общего и профессионального образования Свердловской област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13" name="Прямая соединительная линия 5" descr=""/>
          <p:cNvPicPr/>
          <p:nvPr/>
        </p:nvPicPr>
        <p:blipFill>
          <a:blip r:embed="rId1"/>
          <a:stretch/>
        </p:blipFill>
        <p:spPr>
          <a:xfrm>
            <a:off x="396720" y="1017720"/>
            <a:ext cx="8393400" cy="298440"/>
          </a:xfrm>
          <a:prstGeom prst="rect">
            <a:avLst/>
          </a:prstGeom>
          <a:ln w="0">
            <a:noFill/>
          </a:ln>
        </p:spPr>
      </p:pic>
      <p:grpSp>
        <p:nvGrpSpPr>
          <p:cNvPr id="714" name="Прямоугольник с двумя скругленными противолежащими углами 7"/>
          <p:cNvGrpSpPr/>
          <p:nvPr/>
        </p:nvGrpSpPr>
        <p:grpSpPr>
          <a:xfrm>
            <a:off x="146160" y="1530360"/>
            <a:ext cx="8839080" cy="2949480"/>
            <a:chOff x="146160" y="1530360"/>
            <a:chExt cx="8839080" cy="2949480"/>
          </a:xfrm>
        </p:grpSpPr>
        <p:pic>
          <p:nvPicPr>
            <p:cNvPr id="715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146160" y="1530360"/>
              <a:ext cx="883908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336600" y="1755720"/>
              <a:ext cx="8461440" cy="23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Arial"/>
                </a:rPr>
                <a:t>«Организация работы по проведению социально-психологического тестирования обучающихся в профессиональных и муниципальных образовательных организациях Свердловской области, направленного на раннее выявление незаконного потребления наркотических средств и психотропных веществ в 2014/2015 учебном году»</a:t>
              </a: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18" name="Picture 7" descr=""/>
          <p:cNvPicPr/>
          <p:nvPr/>
        </p:nvPicPr>
        <p:blipFill>
          <a:blip r:embed="rId1"/>
          <a:stretch/>
        </p:blipFill>
        <p:spPr>
          <a:xfrm>
            <a:off x="826920" y="1150920"/>
            <a:ext cx="7632720" cy="5064120"/>
          </a:xfrm>
          <a:prstGeom prst="rect">
            <a:avLst/>
          </a:prstGeom>
          <a:ln w="0">
            <a:noFill/>
          </a:ln>
        </p:spPr>
      </p:pic>
      <p:sp>
        <p:nvSpPr>
          <p:cNvPr id="719" name="Содержимое 7"/>
          <p:cNvSpPr/>
          <p:nvPr/>
        </p:nvSpPr>
        <p:spPr>
          <a:xfrm>
            <a:off x="2195640" y="260280"/>
            <a:ext cx="65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Нормативные документы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21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94920" y="115920"/>
            <a:ext cx="8785080" cy="12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Количество обучающихся в образовательных организациях Свердловской области, принявших участие в тестирован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в 2014-2015 учебном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Диаграмма 6" descr=""/>
          <p:cNvPicPr/>
          <p:nvPr/>
        </p:nvPicPr>
        <p:blipFill>
          <a:blip r:embed="rId2"/>
          <a:stretch/>
        </p:blipFill>
        <p:spPr>
          <a:xfrm>
            <a:off x="4857840" y="2206800"/>
            <a:ext cx="3938400" cy="3030480"/>
          </a:xfrm>
          <a:prstGeom prst="rect">
            <a:avLst/>
          </a:prstGeom>
          <a:ln w="0">
            <a:noFill/>
          </a:ln>
        </p:spPr>
      </p:pic>
      <p:pic>
        <p:nvPicPr>
          <p:cNvPr id="724" name="Диаграмма 8" descr=""/>
          <p:cNvPicPr/>
          <p:nvPr/>
        </p:nvPicPr>
        <p:blipFill>
          <a:blip r:embed="rId3"/>
          <a:stretch/>
        </p:blipFill>
        <p:spPr>
          <a:xfrm>
            <a:off x="682560" y="2127240"/>
            <a:ext cx="4102200" cy="2895480"/>
          </a:xfrm>
          <a:prstGeom prst="rect">
            <a:avLst/>
          </a:prstGeom>
          <a:ln w="0">
            <a:noFill/>
          </a:ln>
        </p:spPr>
      </p:pic>
      <p:sp>
        <p:nvSpPr>
          <p:cNvPr id="725" name="Скругленный прямоугольник 1"/>
          <p:cNvSpPr/>
          <p:nvPr/>
        </p:nvSpPr>
        <p:spPr>
          <a:xfrm>
            <a:off x="611280" y="5229360"/>
            <a:ext cx="813744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  <a:ea typeface="Arial"/>
              </a:rPr>
              <a:t>СПО –</a:t>
            </a:r>
            <a:r>
              <a:rPr b="1" lang="ru-RU" sz="3200" spc="-1" strike="noStrike">
                <a:solidFill>
                  <a:srgbClr val="000066"/>
                </a:solidFill>
                <a:latin typeface="Georgi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Georgia"/>
                <a:ea typeface="Arial"/>
              </a:rPr>
              <a:t>учреждения среднего профессионального образования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  <a:ea typeface="Arial"/>
              </a:rPr>
              <a:t>МОО –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Georgia"/>
                <a:ea typeface="Arial"/>
              </a:rPr>
              <a:t>муниципальные образовательные организаци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7" name="AutoShape 4"/>
          <p:cNvSpPr/>
          <p:nvPr/>
        </p:nvSpPr>
        <p:spPr>
          <a:xfrm>
            <a:off x="611280" y="1557360"/>
            <a:ext cx="7921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29" name="Прямоугольник 7"/>
          <p:cNvSpPr/>
          <p:nvPr/>
        </p:nvSpPr>
        <p:spPr>
          <a:xfrm>
            <a:off x="2050920" y="33336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Локальные акты, разработанные  для обработки результатов</a:t>
            </a:r>
            <a:r>
              <a:rPr b="0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 </a:t>
            </a:r>
            <a:r>
              <a:rPr b="1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социально-психологического тестировани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30" name="Picture 13" descr=""/>
          <p:cNvPicPr/>
          <p:nvPr/>
        </p:nvPicPr>
        <p:blipFill>
          <a:blip r:embed="rId2"/>
          <a:stretch/>
        </p:blipFill>
        <p:spPr>
          <a:xfrm>
            <a:off x="539640" y="1319040"/>
            <a:ext cx="8209080" cy="49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85480" y="1714320"/>
            <a:ext cx="864396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Цель - выявление наиболее действенных факторов риска и защиты, влияющих на вероятность приобщения подростков к сфере потребления наркотиков и связанных с этим пробл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В качестве факторов риска и защиты представл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 общий уровень р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индивидуаль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семей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среда сверс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общесоциаль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«школьные»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6"/>
          <p:cNvSpPr/>
          <p:nvPr/>
        </p:nvSpPr>
        <p:spPr>
          <a:xfrm>
            <a:off x="826920" y="16992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Анкета В.Г. Латышев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Arial"/>
              </a:rPr>
              <a:t>«Исходная оценка наркотизации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-324000" y="115920"/>
            <a:ext cx="9180720" cy="6883200"/>
          </a:xfrm>
          <a:prstGeom prst="rect">
            <a:avLst/>
          </a:prstGeom>
          <a:ln w="0">
            <a:noFill/>
          </a:ln>
        </p:spPr>
      </p:pic>
      <p:sp>
        <p:nvSpPr>
          <p:cNvPr id="736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7" name="Прямоугольник 6"/>
          <p:cNvSpPr/>
          <p:nvPr/>
        </p:nvSpPr>
        <p:spPr>
          <a:xfrm>
            <a:off x="324000" y="21420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в образовательных организациях Свердловской области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по уровням риск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38" name="Диаграмма 2" descr=""/>
          <p:cNvPicPr/>
          <p:nvPr/>
        </p:nvPicPr>
        <p:blipFill>
          <a:blip r:embed="rId2"/>
          <a:stretch/>
        </p:blipFill>
        <p:spPr>
          <a:xfrm>
            <a:off x="-663480" y="2441520"/>
            <a:ext cx="6222960" cy="3846600"/>
          </a:xfrm>
          <a:prstGeom prst="rect">
            <a:avLst/>
          </a:prstGeom>
          <a:ln w="0">
            <a:noFill/>
          </a:ln>
        </p:spPr>
      </p:pic>
      <p:sp>
        <p:nvSpPr>
          <p:cNvPr id="739" name="Прямоугольник 1"/>
          <p:cNvSpPr/>
          <p:nvPr/>
        </p:nvSpPr>
        <p:spPr>
          <a:xfrm>
            <a:off x="108000" y="1658880"/>
            <a:ext cx="4680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в профессиональных образовательных организациях по уровням риска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0" name="Прямоугольник 2"/>
          <p:cNvSpPr/>
          <p:nvPr/>
        </p:nvSpPr>
        <p:spPr>
          <a:xfrm>
            <a:off x="4500720" y="1844640"/>
            <a:ext cx="44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 в муниципальных общеобразовательных организациях по уровням риска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41" name="Объект 3" descr=""/>
          <p:cNvPicPr/>
          <p:nvPr/>
        </p:nvPicPr>
        <p:blipFill>
          <a:blip r:embed="rId3"/>
          <a:stretch/>
        </p:blipFill>
        <p:spPr>
          <a:xfrm>
            <a:off x="3944880" y="2370240"/>
            <a:ext cx="5286600" cy="370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43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920" y="357120"/>
            <a:ext cx="760104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Сравнение факторов р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5" name="Диаграмма 7"/>
          <p:cNvGraphicFramePr/>
          <p:nvPr/>
        </p:nvGraphicFramePr>
        <p:xfrm>
          <a:off x="0" y="1422360"/>
          <a:ext cx="9144000" cy="5461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6" name="Диаграмма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22360"/>
                    <a:ext cx="91440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48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826920" y="357120"/>
            <a:ext cx="760104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Сравнение факторов р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50920" y="1484280"/>
          <a:ext cx="8642160" cy="4070520"/>
        </p:xfrm>
        <a:graphic>
          <a:graphicData uri="http://schemas.openxmlformats.org/drawingml/2006/table">
            <a:tbl>
              <a:tblPr/>
              <a:tblGrid>
                <a:gridCol w="287280"/>
                <a:gridCol w="1982880"/>
                <a:gridCol w="1763640"/>
                <a:gridCol w="1871640"/>
                <a:gridCol w="1297080"/>
                <a:gridCol w="1439640"/>
              </a:tblGrid>
              <a:tr h="152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Управленческий округ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Количество муниципальных образовательных организаций (шту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Общее число обучающихся, подлежащих участию в тестировании в возрасте от 14 до 18 лет (челове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Общее число участников тестирования (челове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Могут быть отнесены к группе риска (человек/ %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Северны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 03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 08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58/4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Восточны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 15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0 3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75/3,6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Горнозаводско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7 96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 77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88/2,3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Западн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 6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3 98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00/2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Южн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 4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0 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670/6,4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Березовски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Арамильски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Сысертски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Режевско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8 15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6 8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138/5,8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Г. Екатерин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3 2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2 57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94/5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1" name="Rectangle 5"/>
          <p:cNvSpPr/>
          <p:nvPr/>
        </p:nvSpPr>
        <p:spPr>
          <a:xfrm>
            <a:off x="395280" y="5807880"/>
            <a:ext cx="835344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Georgia"/>
                <a:ea typeface="Arial"/>
              </a:rPr>
              <a:t>Показатель для определения группы риска взят по среднему уровню риска и отражает  отсутствие самоопределения в жизни у обучающихся.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Georgia"/>
                <a:ea typeface="Arial"/>
              </a:rPr>
              <a:t>Среднеобластной показатель по среднему уровню риска – 4,2%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53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4" name="Rectangle 2"/>
          <p:cNvSpPr/>
          <p:nvPr/>
        </p:nvSpPr>
        <p:spPr>
          <a:xfrm>
            <a:off x="468360" y="260280"/>
            <a:ext cx="8746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Georgia"/>
                <a:ea typeface="Times New Roman"/>
              </a:rPr>
              <a:t>Основные направления работы с подростками «группы риска»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179280" y="1557360"/>
            <a:ext cx="896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еятельность  общеобразовательной   организаци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ыявление обучающихся, склонных к нарушению дисциплины, к совершению правонарушений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пределение причин отклонений в поведении и нравственном развитии подростков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оставление плана педагогической коррекции личности подростка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овлечение учащихся в различные виды положительно-активной социальной деятельности и обеспечение успеха в ней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зменение условий семейного воспитания (исходя из возможностей образовательного учреждения) с использованием служб и ведомств системы профилактик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ндивидуально-профилактическая работа с подросткам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беседы, консультации, тренинги, занятия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осветительская и информационная деятельность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емейное консультирование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ивлечение родителей для совместной организации досуговой деятельности подростков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оздание комфортных условий в семье для развития личности подростка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осуговая деятельнос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овлечение в систему дополнительного образования, в мероприятия воспитательной направленност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9:38:33Z</dcterms:created>
  <dc:creator>LENOVO USER</dc:creator>
  <dc:description/>
  <dc:language>en-US</dc:language>
  <cp:lastModifiedBy>Ефимова</cp:lastModifiedBy>
  <cp:lastPrinted>2016-02-16T14:45:52Z</cp:lastPrinted>
  <dcterms:modified xsi:type="dcterms:W3CDTF">2016-04-08T07:23:16Z</dcterms:modified>
  <cp:revision>219</cp:revision>
  <dc:subject/>
  <dc:title>Презентация PowerPoint</dc:title>
</cp:coreProperties>
</file>